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EA32-A06D-4124-958C-DE542375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AFAC-AE8E-44E2-8F89-357FEC8F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BC08-767E-4516-9FFF-A6556698D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8577-C823-466C-8862-3FBCAA19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011-CCDC-49AE-885D-2BF52695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526-8182-4875-933C-45F298643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070C-3146-4D88-9617-0668B606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E74-BAF4-4F73-B337-CDD6914C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3DF-1193-4D36-8DE9-FBDEDBA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F35-49BB-4A5A-AB53-FCBC9A7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762-B5EB-4475-A1F6-1046EA73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285-483B-4A40-81EE-F695BF40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7D6F-F505-424B-8488-C4EE5203F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52280"/>
            <a:ext cx="8381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opic 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82880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20040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4190760" y="2133720"/>
            <a:ext cx="7596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800600" y="2514600"/>
            <a:ext cx="2552760" cy="876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861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isadvanta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66680" y="2133720"/>
            <a:ext cx="2667240" cy="91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3276720"/>
            <a:ext cx="3276360" cy="23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sier to get food for chea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ts of foo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ts of sp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ss poll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3276720"/>
            <a:ext cx="4343400" cy="29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manufactured goo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t good econo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 facto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kes a lot of work to maintai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rything takes longer to build due to no factor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What happens to the prices when more cotton is produced than can be sol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7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: The prices of cotton go down when they make to much then needed because they have more supply then how much demand there is for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: What is sharecropping and what impact did it have on African America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: Share cropping is when a farmer works land for the owner who provides equipment and seeds and receives a share of the crops. This helped the African Americans by easing their labor and gave them food for their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533520" y="380880"/>
            <a:ext cx="76197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i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2096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by, Joyce (2003)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merican Republic to 187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cGraw-Hill Compa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8:54:07Z</dcterms:created>
  <dc:creator>cfisd</dc:creator>
  <dc:description/>
  <dc:language>en-US</dc:language>
  <cp:lastModifiedBy>cfisd</cp:lastModifiedBy>
  <dcterms:modified xsi:type="dcterms:W3CDTF">2009-05-07T19:22:55Z</dcterms:modified>
  <cp:revision>3</cp:revision>
  <dc:subject/>
  <dc:title>Slide 1</dc:title>
</cp:coreProperties>
</file>